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3E0-8197-434D-A24F-28852316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095-2524-47F3-878D-5B5F6A4FFC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F39-CAB6-4394-926F-9CCB605E37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945-D751-4924-8CCE-29C0EEF396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522-3023-41FC-998D-6033562775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D2C-90EB-4FEA-9D7C-9482668AC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646-9016-4014-8599-706A44376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68C-6296-4A46-AAC9-1E09FD634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9F4-329C-4D1D-B7C5-0968B37DA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87C-D4FA-4888-9CC1-FAB051D885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435-36C7-4AC0-BD3D-0983ED4C7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5062-26C6-41B5-84AC-11B5B6275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302C-1A72-49EB-866E-4D4AA218F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AA91-5DD8-4965-A9E3-123807AAD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ECD-B525-4664-AC5F-2F44F570D0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5DA-CC2E-432D-942F-A4C5DBB1EC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223-8F9B-4267-8916-96D74A6C0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1B01-FDE5-4A90-B9D1-4A8CDC619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03E-7FF0-4CCC-9680-E86EA55770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4EB-F695-4FE8-8D7D-3CF4D2529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4EC-CD06-42D0-9336-BE7BB65D7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E3E-4417-402B-8AA7-FF609099E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D44F-EC54-4441-9097-2F743E5A0E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A91-AD45-48C5-9289-0786D2A0F8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E48-521A-4EE9-BC7A-11B2997D6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282D-0DE2-4B67-9BC1-EB69E55A2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B57-EB98-451E-AE66-2603690CF2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0DD-2CBF-4EB1-84E9-0E9BD5C72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6A8-9BDA-46D7-BA59-6664F8DD7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C67-4139-478A-9507-15F5C3056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867-33E0-4813-A4CD-043171B7C6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9F6-03B5-4987-919C-5F033AB32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3B23-DCD0-4F9F-8627-3F969EF77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777160"/>
            <a:ext cx="2971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955-F196-4B9E-BE62-FEEEDA8B9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B19-8CB4-4BCC-9270-6E22A413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806-3610-45A6-9F4E-766A888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744-E949-458B-AA23-5E44294B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3A4-C110-4519-B150-485FBAA5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E70D-5722-46D3-A7FD-9FBEF7EE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22A3-5365-4EAB-B6CB-A6A927E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731-6461-480E-B5BA-71D4CCD2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B164-CEC7-452F-80ED-9C3DCC5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38D-E98D-47FD-8130-6C7D4B4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F239-2DB4-4F06-892B-2A7ED72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CF4-D85A-4C2D-9581-BC90F86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D9E-2991-4B50-AF05-E7AFB11A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373-F6BD-4048-9284-46673A5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7A7-2395-46A1-B96F-94E7FD8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1BFA-3BAB-4B42-8C5B-3979BD2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16CB-FE23-4F54-AE44-02F534EF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C20E-B779-4884-9529-1FA44DBF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6A0-A965-472C-88A0-0AA9035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316-C7B5-4C02-B19C-1D8763E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3C4-9503-492C-9ED7-BCA78145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6CC-DEA9-4446-8BD5-FF1DCE0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EAC-F0B4-4B69-B975-0818EB9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FD0-D26B-4972-91FD-94D55CCD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5B3-892A-41AF-80E2-8D095913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D9C-D7D8-44C9-AB4C-D3B7DA56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1D7-5E42-4016-A0D7-D365212176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etry Ter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19160" y="15235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of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121-C744-4B6E-AFF0-401E5F1BB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DB0-9C9A-447B-BC6C-9D6382C26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urative Langua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not meant to interpret li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dissimilar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vivid im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phors, similes, person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y black eyes are coals burn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ke a low, full jungle mo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the darkness of be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C36-0D19-471F-AF1D-AE0E72213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Metapho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of spee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ng spoken of as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ome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Poetry is a riv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ky is a patchwork quilt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26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6DA-DDF0-459C-9C83-5A40E4F945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Onomatopoe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imitate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whirr, thud, sizzle, his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z, bang, 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oe’s “Bell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bells, bells, bells, bel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ing, chiming, jang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ling, clang, clash, ro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1DB0-A2D7-48CE-84F4-7FE3194E0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Simi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 of speech,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mp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unlike id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rning sun is like a red rubber ball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dry up, like a raisin in the sun?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ADC-00A0-4C23-8594-D87239119B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Image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520" y="12952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or figurative 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word pictures (ima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sight, sound, taste, touch, smell, or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ghostly marching on pav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d-tanned ski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se black pool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EE3-2561-46AC-BC43-7A1ACCAA7E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Personific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320" y="11430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ative 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human subject given hum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The wind danced in the tre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ffodils “tossing their heads in sprightly dan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m “tosses her hair, throws back her head, and closes her eye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7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D408-0B4E-455A-95DD-160D4672BB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Extended Metapho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bout a subject as if it we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hing el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several lines long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r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caged bird” beco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who is not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ken-winged bird that cannot fly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omes life without a d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1B88-49E1-402E-942F-A658F8880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g Lang: Sensory Words/La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that appeals to the sens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details related to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feeling the sun beat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 on one’s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55FE-E3C4-4A01-9C46-A661BDC5B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Assonanc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vowel sounds followed by different consonants in 2 or more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weak and wear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ld of silenc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 rolling…a ston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E734-895F-4724-A1AE-5303F488D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Alliter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initial conson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zes words, imitates sounds, creates musical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I grew like a thin, stubb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d, watering mysel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ever way I coul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upon a midnight dreary, while 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ndered weak and wear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ir breeze blew, the white f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w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EA72-7C97-4C56-AE63-0CAD76263B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lements: Stanz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division of lines in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a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d by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lets: two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trains: four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2F8-008D-403D-BBF0-398B65026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hym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tition of sounds at end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rhyme vs. internal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t rhyme vs. slant rhy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upon a midnight dreary, while I ponder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 and wear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ns sing before they die—’twere no bad 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certain persons die before they sing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32" dur="2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5C45-24AB-4BEA-8612-424F41A52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epeti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21896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any language element – a sound, word, phrase, clause, or  sentence – more than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musical effects and for emph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iteration, assonance, rhyme, rhythm repeat sou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rain repeats line/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liked winning…You liked writing…You liked all the faces…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A1A-CFB5-4570-9A2C-6CBE6E907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efrai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ly repeated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 group of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music: a choru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.g.: Quoth the raven, “Nevermore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cavity, Macavity, there’s no on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ke Macavity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EFDC-0372-49CA-BE41-D40132E31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und Devices: Rhyth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 of beats or str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oems have a specific pattern 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young lady named br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speed was far faster than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 and free verse use natu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ythms of everyday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D16-3D3B-4E75-888C-4BE075C34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Fixed For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zas have repeated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l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in each stanza may rhy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sound alik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 and rhythm of stanza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syllables in line may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77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4" dur="77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8" dur="77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7B9-EF66-46E3-AA9C-65BEC71B93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Narrow"/>
              </a:rPr>
              <a:t>Forms of Poetry: Free Form or Free Verse</a:t>
            </a:r>
            <a:endParaRPr b="1" lang="en-US" sz="41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structure or patter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may not rhy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s do not match in number of syllables, length, or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Sonne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191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-line lyric po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atterns of rhyme,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in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, or Shakespear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 quatrains + coup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, or Petrarch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ctave + sest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B053-6E3B-4E3C-AE87-5E4B37E14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E99-5D4A-4402-9E5A-11EA674149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orms of Poetry: Haiku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-line verse for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st and 3rd lines: 5 syllables (?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nd line: 7 syllables (?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gle vivid emo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from n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.g.: Bash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furu-ike ya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An old pond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kawazu tobi-komu     A frog jumps in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izu-no-oto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The sound of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8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9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0E9-4374-4ABF-B455-9E5CE91D5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Lyric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al verse: uses rhythm, alliteration, and rhy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 and feeling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g with lyre in ancient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B8AF-D326-42DE-81C5-DAAF2E2E48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Narrative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s a story in 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n epic or a bal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ey at the Bat”: humorous narrative po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e’s “Raven”: serious narrative po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461E-2B24-43CE-86B8-08ABA1EC3D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peake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ary voice assumed by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not identified by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person, animal, thing,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Dickinson as dead per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ause I could not stop fo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ath—He kindly stopped for m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BEB-4D3C-4CC1-9678-060FD77D8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Balla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like poem that tells a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dventure and ro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ritten in 4 to 6-line stanzas, regular rhythms and rhyme schemes, often a ref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CAF9-137B-4A37-8B83-F1F178370A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Limeri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160" y="15235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orous, rhyming, five-line po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meter and 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: Edward L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n Old Person whose habi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ed him to feed upon rabbit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e'd eaten eighte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urned perfectly gree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on which he relinquished those ha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021-5B97-43DC-8560-9F4032C06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Concrete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m with shape that suggests 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 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8C8-BB1A-4AC2-AD14-D0587CD2F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ypes of Poetry: Dramatic Poe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techniques of dra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 tells a s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’s own thoughts/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oe’s “Raven” uses dram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monologue: 1 pers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s to silent liste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1506-B45D-4956-BB6C-AC2C4FDC19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’s attitud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dience and su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formal or in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ous, playful, pompo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itter, ironic, pers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mpathetic, friend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ieving, sarcastic, har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6D0B-75F0-4370-A29C-9DBE739DF6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llu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to well-known person, place, event, literary work, or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o the Bible or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“The Magi . . . were wise men . . . who brought gifts to the Babe in the mang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A26B-5448-4434-8A9B-353A10EA2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not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meanings associated with a word (in addition to dictionary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caged bird” = sad, trapp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iously owned vehicle” = used c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cation spot” = l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e: fragrance, smell, sten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840-6AB5-4FC7-B6CA-F03ED6CD7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not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tionary definition of  a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of other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nnot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 l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otes inland body of w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notes vacation or fishing sp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460-4731-4055-86A8-3A44C593E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aradox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ment that seems contradictory but may be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prising, catches reader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Youth is wasted on the you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ore things change, 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they stay the same.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2EC-6326-4DCF-B1D7-6D6418B982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ymbo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has own meaning but al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abstract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s for some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ag symbolizes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rlet ibis symbolizes Doodle and other people who strugg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anne</dc:creator>
  <dc:description/>
  <dc:language>en-US</dc:language>
  <cp:lastModifiedBy>Jeanne</cp:lastModifiedBy>
  <dcterms:modified xsi:type="dcterms:W3CDTF">2011-11-13T20:12:49Z</dcterms:modified>
  <cp:revision>12</cp:revision>
  <dc:subject/>
  <dc:title>PowerPoint Presentation</dc:title>
</cp:coreProperties>
</file>